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31D-4886-4ECA-A081-EB2B1F52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F8B-54AC-4882-A59D-96BC7C4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D122F-C877-418A-BA1D-DC381B2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D8D5D-9FFB-4EA1-BFC1-77AB0E89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C42FC-6507-47F5-9B2E-C058A196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D230-8083-4B2F-9515-4A1FBAFC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A873A-854B-4833-B4E5-444FB38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40C5-C519-4E8C-AAD2-6C92B4E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6F1BF-CEDA-4BE2-AFD0-DD277BD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213A-40E2-43CE-92A9-9FFD384E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D50FC-516A-4219-A208-858B2A6C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C4524-5623-4DA5-AF66-0CE4AC27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B50-20DD-4D6C-9028-C5B54747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0F34-ABF5-4323-A586-C22EBC3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FA987-C5DC-4D59-91EB-C045D7F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D2136-1C73-486D-AF8B-0C36F15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E2C09-FA2A-4F6B-BB1B-3BB58DA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C96F7-E429-456A-A51E-782827D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AFFA9-043A-40C8-A504-FCD845BF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D8E0E-9891-42BF-A7C6-C45FC16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97FAD-2F8C-4611-816C-03090B1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EC685-F188-466C-A6E3-0DF211C1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FD67E-4691-4788-AD48-79F3F011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B58-39B2-4E16-9DC7-5A170009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5A64F-32BF-4BC4-A664-3B29046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9FA32-2C4F-48BC-B260-99635DE7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7CE6-C329-44C7-8C7F-78B6229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C9722-FA00-489C-A9F3-4DA932EF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92FA-3F0F-4A74-B29D-D52E066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19700-12FE-49BD-93A3-2FB2F48D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916E-3E3D-42BB-8156-C34EE376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93A3F-A150-4392-A57C-1301AC9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7D57-A7CB-4B2A-9A42-94606AE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EC209-87C8-4935-B745-9CF9FD7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2BF-3183-4399-89CB-9B8693F4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4A6E8-854E-454C-92DE-1B8C9C6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EF85A-6A81-4108-8677-F1D4CF09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550BE-69FA-45A1-9CE3-A30C4391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52428-5AAD-4410-81BE-CD7354F5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5C9AC-ED14-4939-8682-186F427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CFC3D-52D1-4371-97F5-7336916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13638-13D4-49AE-8D47-007A315D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B9C0-A436-4413-9456-30934CE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62E8-3222-4ADE-A2F0-8E58F85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F796E-6BC6-4519-9F83-21ACC3D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822-ABE1-4608-9659-CF9B4C6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46DD8-5349-4EF7-BE57-66799D6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E682B-56BA-4E03-969E-B707D74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F66C1-4EC8-4683-A5AB-4346CC1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D742D-B83A-4314-8EFD-D26E1521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DE47C-98EE-46D7-88B7-043B3676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5ACA2-1143-4AF4-BFE3-D03A426A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ECDAE-99BB-416D-AD6A-98C8ADF6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26EFB-4D92-4B7F-B592-4FB081C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861AB-6BE8-407D-9121-6DEAF045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C5965-BF6F-45D2-AB75-E8751DD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D504-3445-481B-834E-1DD8A93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8D330-3097-44EB-9F74-C724DADA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5C6C0-2C15-42FE-8647-C435FB7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7245F-1D5D-4D2D-91B6-EC08396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ACF02-2442-4DDD-B2CE-AED3073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4F4CF-4DA1-4B76-8D2B-0A05BA9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52E39-993C-4BAC-81F6-BD3894A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F3798-197E-4C53-AB05-5D8CFE15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6730F-0F9B-45A2-859F-B8406863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5F8E4-3894-4E24-92D1-727B26B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8A2B0-6CA2-44FB-BF7C-0B80B7B5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7A9-DB3B-4837-8E49-BA894C2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1D2A6-CFC1-48D8-9422-4FB3E8F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1E6A8-F166-4E0F-84C8-B759AB1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85877-CCBB-4EC3-B8C2-6AAD287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C2C2C-A87F-4B9D-A943-3E5FA73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D77F3-50C0-447B-B237-F8D8B02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6F20C-7CF7-4621-A558-D5BF8B2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2CB74-3E58-4447-B8EF-5E4398C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AA523-4892-4E90-8410-21041204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699A9-C306-4927-B492-19B158DC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7DB26-6E0D-4EA8-90FF-CD8A3B1A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101-D524-4D9D-AEC4-7C945A1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81D2D-3FAC-49D4-ADD4-30313CF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97A96-51EC-4F91-99F4-FB7DFE1F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019B8-C5A2-4CA0-B0A7-B2997F5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2B313-3425-4032-A3D0-B11D08A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01572-517D-4A48-B9A2-59E2FCE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2657D-5407-413A-BEF5-E995DD6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6C262-546D-4F8D-B822-06D63CA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56FB3-850F-4B0A-92F0-EAE6B92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7B7CA-F9E6-4815-A8E7-BD557F4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DCB83-5EFC-4D44-A139-8AC17C5B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4A34-C0FF-4FA8-A71C-0C4942C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45005-1FBB-41DD-B10B-87AD9F1C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2E956-37EF-4E08-87F3-74C9C37E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DE944-F6AA-4F6E-8E50-3C8C9B1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73E1A-621E-457A-B3C5-27789FE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A7E7C-E1FF-4C66-A855-A959159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E6A46-976A-458F-AA93-A36791E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D024A-4677-4D05-947F-14EFE44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87E53-91F0-44E8-A5E1-E7FED500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D988F-E5EE-4889-88BD-8BDE905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9CD66-330E-4036-97E6-8EBED6F0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3F85-132F-4D31-AF9B-D63CAFD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5EBCA-92F6-4A94-BF35-E1C73537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503D3-D79E-410F-8A41-3A4132B8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37B84-FDC0-4B82-9A0F-09EC0B84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C7F44-D737-475A-89A5-41DCD35A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07C29-6B26-4C07-8F55-F999AA4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97C95-FA8E-42F9-98E4-1BC00BD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A42C1-00D4-42A3-BFB7-9EED99B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198FB-CF4A-4742-824D-9DAEC838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2FCEA-726B-4A4F-B888-035BB92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60056-4CAC-4A39-82B7-169FA73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244-C7F3-4A9B-87FB-C63B557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F4DD-772F-4806-A8F9-1A890C0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94AAA-CF58-47C2-A026-83334F7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A7229-6ACB-4590-ACA0-60DE266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33201-08F3-437D-B2C2-50E5C4E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BF564-1219-45C4-A294-7BEDBA2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34B3C-7460-404D-8271-394DB8C4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2E92E-2F8F-4FFF-BD17-E58286FC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E3C65-E21D-4A7B-B7B5-99E26FB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20550-AC98-4031-BAEA-B1C34D92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4B7BC-3E1E-49B4-BC9F-4B71C74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B0326-C2DD-4F0D-ADF1-91255DC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A89D-7F6C-4642-8FE8-B4014DC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FACFE-D312-4978-BB66-02A9BCB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BD39D-E12F-44A3-8563-A4D47D1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D5076-9621-4559-9A15-30F4AF8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E9315-AD1E-410B-9A59-0B9B152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F5263-7184-4E8F-B127-F29D81E5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5883F-FC2A-414C-A891-950388A6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499A0-501F-43D5-A4E7-5D64D210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03350-DCBD-4D57-8E15-E7C5D605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69259-0DA5-42B0-9C0C-8AC86F57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89327-5B1C-42B0-9256-C24C263C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185-BF84-4F7E-918F-70B9C62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B1503-0CEF-4659-B0BA-C75BB465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21E11-0A86-44D9-BCAF-60A2AAA0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7D713-7001-4B7A-9546-4F66B844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9B09E-AB60-4B78-A8BD-63B755B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2B1BB-F0B6-48B5-8C3F-09E1FD6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D50E1-C9D4-4656-8430-E7D07B6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D27A7-700D-46D3-BF1E-3A3018C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D3048-4ACE-4436-8548-D87FB665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CEFB7-BF9B-439A-BDC6-24B50CCE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D6001-518F-4A28-A35E-034844C6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06F-5B46-49C0-9FC9-BC5AA319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FCC8D-250E-4AFD-BB74-9DF4638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F3339-A324-467A-A8FB-E5DB3E0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BB598-1288-4CB7-8A76-E270E19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85FAB-0957-4F7F-980D-4F23180A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9BB42-CB23-42AD-952B-64855A3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136F9-0E11-43DD-BD6D-56AE0F7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6C6E5-7DC1-442B-AED2-B85D820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C691F-FFAA-499B-A619-ABE7798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BA799-2819-4B61-8888-896EBA9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D3387-79DF-4C42-B400-39BFDA16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F42C-DF1D-46EF-A734-E08F9C5D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B3471-A651-4F89-9D13-14BB772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AC06D-AFEB-4E0C-827E-15BBC476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E5922-CDC5-4D5B-BD7B-C7B1B4E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DE700-4C07-42E0-AE5D-EA9E15B9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D3513-1543-45D7-94CD-9BB9E490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4CBA0-9F36-431F-9F1D-BF58F2F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2B688-E424-4669-B158-9284FB14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8A788-4A73-4956-9FDB-7926DD6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0A86B-C81E-424D-840A-F9C7BF4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18121-6B43-43B3-BD67-077DE80F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0D09-1817-4CEF-A45E-0906C07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45A6D-B72E-412C-BD83-4BE6274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7A9D8-C052-4086-A15B-BAE1BEE7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27F48-6509-40D3-8EDF-1DDDC52D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8A2AB1-13F6-402E-8A45-193C3DF7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A273E-E493-497F-BE5E-A7965B48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ECCB4-1627-47BB-92CC-060D2C0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205D39-66D3-41F0-9165-92AAEF6E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910E80-6CA0-4A4E-ABE2-264F03B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89A6F-9C4E-4694-A936-B7694D8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48CD9-C50D-45CC-BDC1-5172D193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A0C3-FEB2-4582-9BDF-1B74DC4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988DA-2F4E-46D8-9B6A-75DC1DD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AD656-7A7F-40ED-96A2-D877C10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0495B-BCFB-4195-8AFC-46539F9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C2FF9-704A-4946-950E-9518EE4E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F0077-14CA-4B96-8A82-60A6202A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98015-5F92-4754-A876-9E106FF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B4377-699C-4A32-8409-38E3B8CA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9109DE-8F10-473B-BC66-781660A8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5AE2A-3927-4A22-B721-1D9DD05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FE750E-A5A1-42AD-BACF-8933915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45B4-EBE8-4044-80FF-172DF35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4E992-6E18-4282-A5B1-10745D3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4565B-0C90-4887-8262-63ED428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A7348A-CC61-4CF5-ADA4-D2FB7CB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1718D-3FB5-442B-8FFF-2A58F5A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11A52-4AE1-44E4-9439-CA69ABE9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07BFB-BEC0-4C19-8A2B-17270755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8E902-0F1C-4E28-A610-2A56E631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EAEDD7-E200-4171-B983-A2FD57A0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9C0153-5BC9-4FF0-B830-9AB6CCA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DDAB08-1D3A-46AD-A274-1635AA9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6C41-F3C6-42C7-BD36-F50E631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C75248-227B-4783-8183-80C99E5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A45E3-9BCE-46C1-8423-72DFC6D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BA9F3B-05EE-48A6-ADCB-716E3F2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41F63-83EF-4E1F-BA81-482A8DD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6C1E0-CA62-4370-AB77-6D8F4F99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E96509-B285-435E-8C93-4D3D071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2BACB9-E223-4506-8B1F-0F2B818F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D22D04-F30C-473F-BA49-0D257D35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23F7F-F221-4CFB-B73E-5B9DABC8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50251A-E7E5-421B-A2EC-C39547D9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FA9E-DDCD-49E9-B27F-46A52A06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ADD745-3843-4DE9-9F53-B0C7320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1F9138-6A5D-49BA-9930-F534BAB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4B2332-5819-4EF6-80B3-60A487A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501ADE-2A31-4CB7-8F82-351EC7F9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FB2901-E5F9-40BB-BEC3-93A39C8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80C5D4-902A-4319-8CA9-FC6E68F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6BD8F9-9030-4A92-B64B-18D2185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67C04F-7171-469D-8F2D-A63FD11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99F730-A4E5-4AEB-8892-049C82F9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A9EEDA-2C50-4697-BAD0-4434F2FA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A26-DD10-490C-9CE6-5D4325A7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0A76-3931-492F-852A-E3769CE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BDB15-34B8-4B10-B22C-5D956EA8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5DB067-DD6C-4C55-A955-F57F35A3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9231E8-AF45-40B9-8926-09A06315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7A6393-404C-4997-B435-EC010A5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7E5A1B-3136-4D48-9390-360B6AB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03C64C-3709-4861-90D0-694B36B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206F12-674F-4352-94A2-E675BC9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E569FB-FB5A-46AD-BF54-57A6114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F48FEA-490B-4FEF-A37A-040D4E9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ECF27-C626-4803-9CEB-D30C05A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5831-5E49-41B4-9365-36864541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BC6A90-99FD-4135-9206-348CC26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A82946-17B4-4A0F-957B-F14BE1FB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1605FB-3D48-4DCE-B4A5-304EFC8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AF5D7-7E68-4C17-B353-E3763B9F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A1F04B-403C-430C-A258-D4BC9EC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D29427-65E8-48EE-8BB9-FA502E08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1C1B33-3AC9-421C-BB02-517EC82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3E50FF-C2AE-47B3-856D-8DD8191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84057-A4F2-43A1-8315-D843CE2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95F15C-A032-4E1A-A574-E83436A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47D7-1C2A-44A3-A682-8DBA6A4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AF032D-E93B-48BA-9653-30F833B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C614FE-9373-44E3-BFE5-608CBE4B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A69E3-4FF6-45E6-BCCA-EBED93B3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44C616-B70C-495D-BC37-3D0E0D85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4359E0-733D-4D40-96A9-82957AE0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5B2717-4B45-409F-9A2C-003352ED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ACCAE8-8FC3-47C3-A0BC-67133C7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84E95F-306D-4988-AFBC-638F05C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F7A31-07B3-4AB7-9D64-E83B8C1E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297515-F030-4EB4-B943-E98E1CE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AEBF-9DB3-42FF-BD37-F73B4BC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41D8D4-EB9B-4AAB-BD8C-C7D53B7D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B6B45-EABF-4501-AAA3-AAE4F7D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418EE-6958-4D0A-AAEA-752D405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B79658-4749-4B9B-94A4-97F09C8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4CEEB7-4737-4ED6-A681-0CBAC41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F44F9-722E-4D89-B3A2-3003D9E9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7C2B1A-8985-461B-B33D-FBFE135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C8F175-0A5C-4CAE-BDDA-2D770590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325C1D-62B9-4CB2-93B5-7DCBA74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DA39E2-304F-4D85-A02F-6727A0AF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BCAC-8BAD-4CAF-AB53-59C28135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1955E1-4C78-4FDA-B669-027FA5C8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B947F0-74F3-43E1-B2FC-73041714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4EA433-73D7-4E49-8B74-5CF22075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FC291C-64EC-4F6C-AFE6-0D0369F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E7C450-1928-47D5-90CA-9929BF9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2095D0-D76E-41FA-87DF-4097D3E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7D6FB8-18D9-4716-8C15-B3A2520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1D1FA7-CF1D-4742-A5AE-0006775D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13686F-CF36-49C8-A200-8024E84F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493C86-429D-4D8C-AB03-8D9DF5FA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5105-9B0D-4873-9CE8-3DF0E0FA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FAFFB3-36EC-4D07-93AD-F40C98C7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FCF54F-43F5-484E-A9B9-B998A89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40EDCA-553B-4F28-A588-B8E264A0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E66801-A21F-4910-840B-C692689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DA10F0-5A9D-41E8-A1A7-14A5244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1DCE05-1B85-4EEB-BF6A-7C5921E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888787-584D-409A-A284-57A40B2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A78056-1A03-4C9F-90D9-2BF5954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855E2-3242-44CE-9926-342D45E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0C42C7-2D25-4737-80EF-75DC20A9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F813-7049-4D77-A5BE-DAD5D9FC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04059D-B4A2-4B94-B044-122D796A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DF14CF-4EB1-4207-AA2C-1F833045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32B82D-3B8D-476D-98FA-83FAC17A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9F8308-51AA-45EA-9003-28BE79F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E350AE-0C9F-4EA1-8743-4BEC4F1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D154C-BA4B-4127-8F8E-848BF3A7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1C2C5C-9D21-442D-898B-9CC57A93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6B2347-4267-4B86-907A-E32BB39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E8BEFB-6F3D-4E7E-9E51-75DAFFF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E20F1E-7010-429A-803B-CC5540C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D08D-72F4-4D7C-94AA-0A724E69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743917-8267-436A-9945-80988F31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6BCF97-74C6-48D6-9725-6C491FFE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430345-CFC2-46FB-A35A-4815DE66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6F38-510E-4187-A746-0BBB7071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F662-228D-4CFE-83D9-1F7A1260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74E-4CB8-456B-AE51-DC627360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5B8D-08A7-41A6-893F-5E650F9C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3F7A-F1CC-4901-A3D8-D162BE5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C634-4110-498E-B1D9-B919AAE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C6FD-B6BB-4070-9403-D809599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5A52-584C-4C91-B645-5279212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8CCB-6621-43B3-938D-1A55C39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26AC-3250-4EAA-8C36-EE11854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339B-D75D-43A8-BA21-C25E0B52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EED0-DC81-4F72-83FF-382F5B4D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02CF-7819-41F8-A484-B0291DBE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69B-DCB5-49AC-BF88-340BC101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DE7F-6931-47F5-9F49-7C5990C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F7DF-2000-4066-8031-04A5D52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110C-8579-4C3B-9FA9-D9843AD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B05A-2997-4E96-BF1D-9FEDD3C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4FBE-D4DC-4070-A7D0-07A0377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0A60-66CC-4537-9638-237B7A9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58929-7C0D-485A-8D85-8FF9886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557F-6587-48B5-B03C-2678D5E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3F70-6326-4CC4-BF48-59D64A0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C69E-5342-4704-AB45-CAE97CCF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44A-59FD-43F7-A83F-B047AB37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64FA-F251-43D0-9540-9A1EE1A8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160E-8F46-49B7-AA8E-983D0D0C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4D15-CDD8-41F8-879A-4BB0AE9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6894-EE22-4792-B131-0CD4AFCC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245CA-2264-4334-8A1F-21E83EE1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E994-E5B8-46CD-8180-BC76A3F5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7F9C-6E51-469D-88DC-C950B44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3950-4522-4A22-B4E6-902DE66D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6309-CD71-4940-8297-FA2E68E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9368-7504-4825-989A-8B0A2CDF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D86-B505-4128-82C5-D5D7F5B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AB10-E811-4919-A093-9D39582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D3AA-7E92-450C-B0C8-B45BD1B3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EEAC-7A4A-4752-B0C1-537211A2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37DF7-C056-44D5-91E6-58933037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BE58-916C-4D5F-B396-435DC5A6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4568-3101-4271-877B-A0D7C89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7E78-3A1E-4DC1-9910-84F4B61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F0BD-14BC-4DBB-8E90-7FCF90DF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584D1-1F30-4E0B-8A44-4434324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1D47-7F2C-44A4-9A48-53B3869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174-E8EB-4F20-8FFF-38FB9AC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4ABE-FF8E-49DC-861C-C989DC8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84B3-DAB3-4940-BB24-A3D389C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58CB-EB34-41DA-B8A9-243600F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2D45-02A1-414B-B730-19E25E1B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7E5B-1238-44E1-8A70-92130D2D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936E-C267-4131-9A0F-AC07046F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4B99-92BF-4484-8E05-E23E59C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2363-FB3E-4315-8DA6-7E4923F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0D4B-7367-4B77-9CFA-56897EB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0BCA-B4AA-45A3-9DB2-4DFDFDF3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7F7-F71B-4AC5-886C-BB98E5F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6A2E-A190-4D39-B0B2-BD26A43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4654-94C5-438F-BBAC-DE35083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09BE-A251-4EA1-9F18-1A39213B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9486B-3CBE-48CE-B829-102CDBE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EF7DA-27DF-4257-9B08-2A034136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D8B6-E19F-4BFF-B4EE-4E00C536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F9E83-37C9-44CF-96E6-81A93143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46A78-F406-40D3-8D23-F7517C18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8B29-EB47-4BB2-9033-AC2B59B3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6493-FF90-442C-B175-C5B1C0C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1D5-3DBB-46F9-A329-043DED5537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57C-043B-4DF0-9885-8302D7C14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36C-F132-4B6C-9998-33FD24FEB3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C1A-186B-48D8-A5B0-B380E961C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630-ED4C-4C42-BB34-33E5A5D78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578-71D5-4F9B-B2EC-EF7B1AF42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C843-B776-4FA3-AC22-70D442463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736-D6C3-4245-A2E9-FF83DF248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2540-AF73-42B8-8CDC-FF1F6FABF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C932-A7F8-424D-AF60-ED33FB767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1531-7AF9-465F-AF0A-E91C957F1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1CB2-519D-4B6F-A996-D3D422975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A9F-4528-4CB5-9276-02F422700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C133-7554-43F3-AF95-7BB4F1828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3ACE-3DBF-4FC3-A17F-8C6C2EC7B1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D2E-31C1-4775-8E3F-58D301105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03C1-8704-41C6-BF69-075370F36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337-1F5E-4144-9DF4-344ACAB4E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989C-306E-4F76-B771-45E4F6A8E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2FD5-3031-49DD-AD7F-F7E496876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988-3195-42D5-9D04-4BF61601E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6978-84FE-4714-8E3D-700F8928E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A602-2293-4768-AD55-2ABA65D75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599-AFAC-4F4E-ADE2-DAD96EE63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9C5-420C-4CB1-9EF4-8306762F8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8E1-62F8-45FF-B6A9-73E888DC1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C84-495E-4DE1-B813-04C14EE38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F173-0304-46FD-BEB6-8E181ACA2A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DE77-E7CC-4AA2-874D-D4B50D0AC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4B9-E575-4AC0-8960-857C6BCD2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C466-79B1-4DA0-BAC9-A9D6F84A5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9E5-7FBF-4245-B6DC-4DFAC4ACFA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C5BD-96F9-4038-B107-77EB8098A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F8B7-17CB-414B-93E0-F67CD941E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193-F71E-4C3D-BF70-0C41BE50C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61E-C352-40CF-B548-BC1771A7F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31E3-A722-45B5-A5D3-8AD3923DB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7A0-52D9-49B4-9A54-D6A124A1F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AC5-771C-4E6C-A98D-19686087A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F0B-7BAB-4D7C-A08B-692EC6790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C17-F839-424F-8EBF-250D45DDF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671-257A-423A-9777-4CC42AE55A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D1A-B987-4912-8690-D0F64567B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46A-A98C-463E-A762-64617BB1D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1C43-FF26-4E36-89C0-79E2AA9CE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EB8-E145-49DF-B3EA-9FD120E9AF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95A-954E-45F8-B0EE-BFF513AC7D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ED5-1CA3-4D53-BE17-687B7544E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50D4-63D6-4E2E-9D1D-BE9D7830F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FBB-1747-4FA6-9DFA-AB70FD4E52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870280" y="1065240"/>
            <a:ext cx="2438280" cy="4096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917800" y="2409840"/>
            <a:ext cx="2952720" cy="417204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4003560" y="4427640"/>
            <a:ext cx="1335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689200" y="4838760"/>
            <a:ext cx="2239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2708280" y="5475240"/>
            <a:ext cx="2938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2637000" y="6122880"/>
            <a:ext cx="2938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32097" descr=""/>
          <p:cNvPicPr/>
          <p:nvPr/>
        </p:nvPicPr>
        <p:blipFill>
          <a:blip r:embed="rId1"/>
          <a:stretch/>
        </p:blipFill>
        <p:spPr>
          <a:xfrm>
            <a:off x="268200" y="870120"/>
            <a:ext cx="8048880" cy="506700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32098"/>
          <p:cNvSpPr/>
          <p:nvPr/>
        </p:nvSpPr>
        <p:spPr>
          <a:xfrm>
            <a:off x="893880" y="1952640"/>
            <a:ext cx="77976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2099"/>
          <p:cNvSpPr/>
          <p:nvPr/>
        </p:nvSpPr>
        <p:spPr>
          <a:xfrm>
            <a:off x="770040" y="2467080"/>
            <a:ext cx="77976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2100"/>
          <p:cNvSpPr/>
          <p:nvPr/>
        </p:nvSpPr>
        <p:spPr>
          <a:xfrm>
            <a:off x="677880" y="3032280"/>
            <a:ext cx="77979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2101"/>
          <p:cNvSpPr/>
          <p:nvPr/>
        </p:nvSpPr>
        <p:spPr>
          <a:xfrm>
            <a:off x="687240" y="3606840"/>
            <a:ext cx="77979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2102"/>
          <p:cNvSpPr/>
          <p:nvPr/>
        </p:nvSpPr>
        <p:spPr>
          <a:xfrm>
            <a:off x="687240" y="4140360"/>
            <a:ext cx="77979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2103"/>
          <p:cNvSpPr/>
          <p:nvPr/>
        </p:nvSpPr>
        <p:spPr>
          <a:xfrm>
            <a:off x="666720" y="4583160"/>
            <a:ext cx="77979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2104"/>
          <p:cNvSpPr/>
          <p:nvPr/>
        </p:nvSpPr>
        <p:spPr>
          <a:xfrm>
            <a:off x="646200" y="5229360"/>
            <a:ext cx="421164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31073" descr=""/>
          <p:cNvPicPr/>
          <p:nvPr/>
        </p:nvPicPr>
        <p:blipFill>
          <a:blip r:embed="rId1"/>
          <a:stretch/>
        </p:blipFill>
        <p:spPr>
          <a:xfrm>
            <a:off x="216000" y="574560"/>
            <a:ext cx="8001000" cy="626760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31074"/>
          <p:cNvSpPr/>
          <p:nvPr/>
        </p:nvSpPr>
        <p:spPr>
          <a:xfrm>
            <a:off x="687240" y="4295880"/>
            <a:ext cx="49532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1075"/>
          <p:cNvSpPr/>
          <p:nvPr/>
        </p:nvSpPr>
        <p:spPr>
          <a:xfrm>
            <a:off x="646200" y="4849920"/>
            <a:ext cx="49528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1076"/>
          <p:cNvSpPr/>
          <p:nvPr/>
        </p:nvSpPr>
        <p:spPr>
          <a:xfrm>
            <a:off x="604800" y="5343480"/>
            <a:ext cx="49528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31077"/>
          <p:cNvSpPr/>
          <p:nvPr/>
        </p:nvSpPr>
        <p:spPr>
          <a:xfrm>
            <a:off x="687240" y="5897520"/>
            <a:ext cx="49532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31078"/>
          <p:cNvSpPr/>
          <p:nvPr/>
        </p:nvSpPr>
        <p:spPr>
          <a:xfrm>
            <a:off x="657360" y="6421320"/>
            <a:ext cx="62881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图片 130049" descr=""/>
          <p:cNvPicPr/>
          <p:nvPr/>
        </p:nvPicPr>
        <p:blipFill>
          <a:blip r:embed="rId1"/>
          <a:stretch/>
        </p:blipFill>
        <p:spPr>
          <a:xfrm>
            <a:off x="230040" y="765000"/>
            <a:ext cx="81248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图片 129025" descr=""/>
          <p:cNvPicPr/>
          <p:nvPr/>
        </p:nvPicPr>
        <p:blipFill>
          <a:blip r:embed="rId1"/>
          <a:stretch/>
        </p:blipFill>
        <p:spPr>
          <a:xfrm>
            <a:off x="790560" y="880920"/>
            <a:ext cx="7562880" cy="509616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29026"/>
          <p:cNvSpPr/>
          <p:nvPr/>
        </p:nvSpPr>
        <p:spPr>
          <a:xfrm>
            <a:off x="790560" y="874800"/>
            <a:ext cx="7728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027"/>
          <p:cNvSpPr/>
          <p:nvPr/>
        </p:nvSpPr>
        <p:spPr>
          <a:xfrm>
            <a:off x="666720" y="1398600"/>
            <a:ext cx="7728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9028"/>
          <p:cNvSpPr/>
          <p:nvPr/>
        </p:nvSpPr>
        <p:spPr>
          <a:xfrm>
            <a:off x="646200" y="1943280"/>
            <a:ext cx="77277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9029"/>
          <p:cNvSpPr/>
          <p:nvPr/>
        </p:nvSpPr>
        <p:spPr>
          <a:xfrm>
            <a:off x="698400" y="2496960"/>
            <a:ext cx="7728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9030"/>
          <p:cNvSpPr/>
          <p:nvPr/>
        </p:nvSpPr>
        <p:spPr>
          <a:xfrm>
            <a:off x="698400" y="3041640"/>
            <a:ext cx="771696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9031"/>
          <p:cNvSpPr/>
          <p:nvPr/>
        </p:nvSpPr>
        <p:spPr>
          <a:xfrm>
            <a:off x="781200" y="3914640"/>
            <a:ext cx="77277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9032"/>
          <p:cNvSpPr/>
          <p:nvPr/>
        </p:nvSpPr>
        <p:spPr>
          <a:xfrm>
            <a:off x="689040" y="4459320"/>
            <a:ext cx="77277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9033"/>
          <p:cNvSpPr/>
          <p:nvPr/>
        </p:nvSpPr>
        <p:spPr>
          <a:xfrm>
            <a:off x="689040" y="5013360"/>
            <a:ext cx="77277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9034"/>
          <p:cNvSpPr/>
          <p:nvPr/>
        </p:nvSpPr>
        <p:spPr>
          <a:xfrm>
            <a:off x="668160" y="5475240"/>
            <a:ext cx="7728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49200" y="892080"/>
            <a:ext cx="8496360" cy="32958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140290" descr=""/>
          <p:cNvPicPr/>
          <p:nvPr/>
        </p:nvPicPr>
        <p:blipFill>
          <a:blip r:embed="rId2"/>
          <a:stretch/>
        </p:blipFill>
        <p:spPr>
          <a:xfrm>
            <a:off x="266760" y="4336920"/>
            <a:ext cx="8458200" cy="1943280"/>
          </a:xfrm>
          <a:prstGeom prst="rect">
            <a:avLst/>
          </a:prstGeom>
          <a:ln w="0">
            <a:noFill/>
          </a:ln>
        </p:spPr>
      </p:pic>
      <p:sp>
        <p:nvSpPr>
          <p:cNvPr id="1339" name="矩形 140291"/>
          <p:cNvSpPr/>
          <p:nvPr/>
        </p:nvSpPr>
        <p:spPr>
          <a:xfrm>
            <a:off x="3483000" y="1766880"/>
            <a:ext cx="5968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1900080" y="2168640"/>
            <a:ext cx="128448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3"/>
          <p:cNvSpPr/>
          <p:nvPr/>
        </p:nvSpPr>
        <p:spPr>
          <a:xfrm>
            <a:off x="5794200" y="3000240"/>
            <a:ext cx="59724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4"/>
          <p:cNvSpPr/>
          <p:nvPr/>
        </p:nvSpPr>
        <p:spPr>
          <a:xfrm>
            <a:off x="2712960" y="3411360"/>
            <a:ext cx="5968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5"/>
          <p:cNvSpPr/>
          <p:nvPr/>
        </p:nvSpPr>
        <p:spPr>
          <a:xfrm>
            <a:off x="4633920" y="3422520"/>
            <a:ext cx="5968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6"/>
          <p:cNvSpPr/>
          <p:nvPr/>
        </p:nvSpPr>
        <p:spPr>
          <a:xfrm>
            <a:off x="6053040" y="3854520"/>
            <a:ext cx="5968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7"/>
          <p:cNvSpPr/>
          <p:nvPr/>
        </p:nvSpPr>
        <p:spPr>
          <a:xfrm>
            <a:off x="8178840" y="51274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9265" descr=""/>
          <p:cNvPicPr/>
          <p:nvPr/>
        </p:nvPicPr>
        <p:blipFill>
          <a:blip r:embed="rId1"/>
          <a:stretch/>
        </p:blipFill>
        <p:spPr>
          <a:xfrm>
            <a:off x="480960" y="941400"/>
            <a:ext cx="8562960" cy="439092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9266"/>
          <p:cNvSpPr/>
          <p:nvPr/>
        </p:nvSpPr>
        <p:spPr>
          <a:xfrm>
            <a:off x="8413920" y="925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7"/>
          <p:cNvSpPr/>
          <p:nvPr/>
        </p:nvSpPr>
        <p:spPr>
          <a:xfrm>
            <a:off x="8404200" y="2209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68"/>
          <p:cNvSpPr/>
          <p:nvPr/>
        </p:nvSpPr>
        <p:spPr>
          <a:xfrm>
            <a:off x="5137200" y="2989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69"/>
          <p:cNvSpPr/>
          <p:nvPr/>
        </p:nvSpPr>
        <p:spPr>
          <a:xfrm>
            <a:off x="5033880" y="34416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70"/>
          <p:cNvSpPr/>
          <p:nvPr/>
        </p:nvSpPr>
        <p:spPr>
          <a:xfrm>
            <a:off x="1746360" y="3894120"/>
            <a:ext cx="37152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71"/>
          <p:cNvSpPr/>
          <p:nvPr/>
        </p:nvSpPr>
        <p:spPr>
          <a:xfrm>
            <a:off x="7900920" y="4971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8241" descr=""/>
          <p:cNvPicPr/>
          <p:nvPr/>
        </p:nvPicPr>
        <p:blipFill>
          <a:blip r:embed="rId1"/>
          <a:stretch/>
        </p:blipFill>
        <p:spPr>
          <a:xfrm>
            <a:off x="573120" y="874800"/>
            <a:ext cx="6696000" cy="2238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138242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219800" cy="261000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8243"/>
          <p:cNvSpPr/>
          <p:nvPr/>
        </p:nvSpPr>
        <p:spPr>
          <a:xfrm>
            <a:off x="903240" y="1706400"/>
            <a:ext cx="28576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4"/>
          <p:cNvSpPr/>
          <p:nvPr/>
        </p:nvSpPr>
        <p:spPr>
          <a:xfrm>
            <a:off x="903240" y="2097000"/>
            <a:ext cx="2857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5"/>
          <p:cNvSpPr/>
          <p:nvPr/>
        </p:nvSpPr>
        <p:spPr>
          <a:xfrm>
            <a:off x="995400" y="2568600"/>
            <a:ext cx="273528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6"/>
          <p:cNvSpPr/>
          <p:nvPr/>
        </p:nvSpPr>
        <p:spPr>
          <a:xfrm>
            <a:off x="4889520" y="1697040"/>
            <a:ext cx="2857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7"/>
          <p:cNvSpPr/>
          <p:nvPr/>
        </p:nvSpPr>
        <p:spPr>
          <a:xfrm>
            <a:off x="5146560" y="2108160"/>
            <a:ext cx="2857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8"/>
          <p:cNvSpPr/>
          <p:nvPr/>
        </p:nvSpPr>
        <p:spPr>
          <a:xfrm>
            <a:off x="5176800" y="2652840"/>
            <a:ext cx="2857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9"/>
          <p:cNvSpPr/>
          <p:nvPr/>
        </p:nvSpPr>
        <p:spPr>
          <a:xfrm>
            <a:off x="646200" y="4552920"/>
            <a:ext cx="31971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50"/>
          <p:cNvSpPr/>
          <p:nvPr/>
        </p:nvSpPr>
        <p:spPr>
          <a:xfrm>
            <a:off x="2320920" y="5210280"/>
            <a:ext cx="128736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51"/>
          <p:cNvSpPr/>
          <p:nvPr/>
        </p:nvSpPr>
        <p:spPr>
          <a:xfrm>
            <a:off x="2577960" y="6083280"/>
            <a:ext cx="1214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8252"/>
          <p:cNvSpPr/>
          <p:nvPr/>
        </p:nvSpPr>
        <p:spPr>
          <a:xfrm>
            <a:off x="4836960" y="4707000"/>
            <a:ext cx="3310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8253"/>
          <p:cNvSpPr/>
          <p:nvPr/>
        </p:nvSpPr>
        <p:spPr>
          <a:xfrm>
            <a:off x="5011560" y="5435640"/>
            <a:ext cx="3310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8254"/>
          <p:cNvSpPr/>
          <p:nvPr/>
        </p:nvSpPr>
        <p:spPr>
          <a:xfrm>
            <a:off x="6338880" y="5961240"/>
            <a:ext cx="183996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7217" descr=""/>
          <p:cNvPicPr/>
          <p:nvPr/>
        </p:nvPicPr>
        <p:blipFill>
          <a:blip r:embed="rId1"/>
          <a:stretch/>
        </p:blipFill>
        <p:spPr>
          <a:xfrm>
            <a:off x="246240" y="950760"/>
            <a:ext cx="8067600" cy="452448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7218"/>
          <p:cNvSpPr/>
          <p:nvPr/>
        </p:nvSpPr>
        <p:spPr>
          <a:xfrm>
            <a:off x="7643880" y="21477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13619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10520" cy="537228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6194"/>
          <p:cNvSpPr/>
          <p:nvPr/>
        </p:nvSpPr>
        <p:spPr>
          <a:xfrm>
            <a:off x="7724880" y="149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6195"/>
          <p:cNvSpPr/>
          <p:nvPr/>
        </p:nvSpPr>
        <p:spPr>
          <a:xfrm>
            <a:off x="7704000" y="3699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6196"/>
          <p:cNvSpPr/>
          <p:nvPr/>
        </p:nvSpPr>
        <p:spPr>
          <a:xfrm>
            <a:off x="2454120" y="4819680"/>
            <a:ext cx="524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5169" descr=""/>
          <p:cNvPicPr/>
          <p:nvPr/>
        </p:nvPicPr>
        <p:blipFill>
          <a:blip r:embed="rId1"/>
          <a:stretch/>
        </p:blipFill>
        <p:spPr>
          <a:xfrm>
            <a:off x="208080" y="912960"/>
            <a:ext cx="8143920" cy="41432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5170"/>
          <p:cNvSpPr/>
          <p:nvPr/>
        </p:nvSpPr>
        <p:spPr>
          <a:xfrm>
            <a:off x="1550880" y="18921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5171"/>
          <p:cNvSpPr/>
          <p:nvPr/>
        </p:nvSpPr>
        <p:spPr>
          <a:xfrm>
            <a:off x="852480" y="3463920"/>
            <a:ext cx="4707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5172"/>
          <p:cNvSpPr/>
          <p:nvPr/>
        </p:nvSpPr>
        <p:spPr>
          <a:xfrm>
            <a:off x="1015920" y="4029120"/>
            <a:ext cx="4707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5173"/>
          <p:cNvSpPr/>
          <p:nvPr/>
        </p:nvSpPr>
        <p:spPr>
          <a:xfrm>
            <a:off x="1047600" y="4562640"/>
            <a:ext cx="47070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图片 134146" descr=""/>
          <p:cNvPicPr/>
          <p:nvPr/>
        </p:nvPicPr>
        <p:blipFill>
          <a:blip r:embed="rId1"/>
          <a:stretch/>
        </p:blipFill>
        <p:spPr>
          <a:xfrm>
            <a:off x="700200" y="871560"/>
            <a:ext cx="3857400" cy="313380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4147"/>
          <p:cNvSpPr/>
          <p:nvPr/>
        </p:nvSpPr>
        <p:spPr>
          <a:xfrm>
            <a:off x="698400" y="1746360"/>
            <a:ext cx="379260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4148"/>
          <p:cNvSpPr/>
          <p:nvPr/>
        </p:nvSpPr>
        <p:spPr>
          <a:xfrm>
            <a:off x="1459080" y="2722680"/>
            <a:ext cx="379224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4149"/>
          <p:cNvSpPr/>
          <p:nvPr/>
        </p:nvSpPr>
        <p:spPr>
          <a:xfrm>
            <a:off x="2414520" y="3627360"/>
            <a:ext cx="15526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图片 133121" descr=""/>
          <p:cNvPicPr/>
          <p:nvPr/>
        </p:nvPicPr>
        <p:blipFill>
          <a:blip r:embed="rId1"/>
          <a:stretch/>
        </p:blipFill>
        <p:spPr>
          <a:xfrm>
            <a:off x="752400" y="963720"/>
            <a:ext cx="5200560" cy="2009520"/>
          </a:xfrm>
          <a:prstGeom prst="rect">
            <a:avLst/>
          </a:prstGeom>
          <a:ln w="0">
            <a:noFill/>
          </a:ln>
        </p:spPr>
      </p:pic>
      <p:sp>
        <p:nvSpPr>
          <p:cNvPr id="1383" name="矩形 133122"/>
          <p:cNvSpPr/>
          <p:nvPr/>
        </p:nvSpPr>
        <p:spPr>
          <a:xfrm>
            <a:off x="758880" y="1490760"/>
            <a:ext cx="53640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3123"/>
          <p:cNvSpPr/>
          <p:nvPr/>
        </p:nvSpPr>
        <p:spPr>
          <a:xfrm>
            <a:off x="942840" y="2035080"/>
            <a:ext cx="53643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3124"/>
          <p:cNvSpPr/>
          <p:nvPr/>
        </p:nvSpPr>
        <p:spPr>
          <a:xfrm>
            <a:off x="1055520" y="2692440"/>
            <a:ext cx="5364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19:11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